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1F9-0DCD-40B2-9BC7-18F9A631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391-D2AF-4205-ABD8-B0E60B32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F9D-932B-4C94-A09C-DE5B71B1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04E-89A9-44CA-B931-9C26D511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53B4-130F-447B-A13A-A07E2514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9F7-A376-4099-8CC6-F3F7F878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A33-75CD-4EC0-BDA4-525CA6F0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FFA8-C9E0-4E71-99CC-69B99D40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495-10AB-4D94-BEFE-989B0DB3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7D1C-591B-44F2-A048-253A32B5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B4F-5E1E-4AE1-BBA2-0A01AF52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D75-9D67-4AD1-AAAF-4985AC11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F713-13E2-4164-8906-AD39CC8D5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nkpen2 Script"/>
              </a:rPr>
              <a:t>By Fa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By faith, we are su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what we hope for, we’re certai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though now we do not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By faith, we belie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You created the univers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You spoke- it came to b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we will conqu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we 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the battle belongs to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so on our kne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we will cry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you will s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‘till for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We will live by 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, people pa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through the Red Sea; the walls of 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Jericho came crashing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, conquered kingdo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and justice was giv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angels shut the lions’ mou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we will conqu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we 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the battle belongs to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so on our kne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we will cry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you will s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‘till for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We will live by 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By faith, we are 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What we hope for, we’re certai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though now we do not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By faith, we belie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You created the univers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lbertus"/>
              </a:rPr>
              <a:t>You spoke- it came to b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we will conqu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we 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the battle belongs to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so on our kne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we will cry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you will s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By faith ‘till for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We will live by 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lbertu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9:04:44Z</dcterms:created>
  <dc:creator>Peter Rivezzo</dc:creator>
  <dc:description/>
  <dc:language>en-US</dc:language>
  <cp:lastModifiedBy>Peter Rivezzo</cp:lastModifiedBy>
  <dcterms:modified xsi:type="dcterms:W3CDTF">2010-03-05T19:28:37Z</dcterms:modified>
  <cp:revision>2</cp:revision>
  <dc:subject/>
  <dc:title>Slide 1</dc:title>
</cp:coreProperties>
</file>